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474-4BF2-40D3-9474-EEBEC8BE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DD1-ED76-4D43-8ECA-B8B9FC6B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213-2777-48F0-9E35-F0650944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DEA-1ADF-44AC-A9A0-9C993C0D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C94C-076C-4D47-AA78-D558B0D5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0F0A-DD21-4F2F-83FC-9B1541A4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9815-1207-4A42-B485-9D9AA2CF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77FB-2D32-455E-BA60-1043BB80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74B2-0F8B-4420-8DB0-F36B9BB2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7ACA-9E93-482D-BF04-8AE9CAA8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5A43-E7BC-4244-8A4D-39D8EA9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737-9106-44D6-8497-8AB6ABAD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EEF5-7811-4EBC-97C7-A93444E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9389-32BC-45CC-8433-62C07114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A7C4-7AE1-4975-82CF-3C644FFD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CEC7-CF39-4EDB-BD74-EDC62E2B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6E8A-16F8-4C24-99A3-C506577D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F72-C124-4948-9CD1-0DB2EAF1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67E-15CF-4FBC-886C-7C09C9D2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E1F-C18F-4C00-85FB-9150595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3C6-511A-4DEF-ADD5-C705A62B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513-AB0D-4FAB-9EDB-630C38F0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D66-902A-41B7-A45A-EC891B0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6F3-0DF0-42B1-8AB2-1AB625D4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3D8-4660-4E8D-A434-A5838526A2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95D5-2D48-49AC-8FD0-50032F7D0DC5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ма проект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132000" y="3141720"/>
            <a:ext cx="547848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знакомление детей с птицами иноземного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ара"/>
          <p:cNvPicPr/>
          <p:nvPr/>
        </p:nvPicPr>
        <p:blipFill>
          <a:blip r:embed="rId1"/>
          <a:stretch/>
        </p:blipFill>
        <p:spPr>
          <a:xfrm>
            <a:off x="684360" y="3357720"/>
            <a:ext cx="2276280" cy="31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Основополагающий вопрос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Arial"/>
              </a:rPr>
              <a:t>Каких птиц можно содержать в условиях ДО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gb44[1]"/>
          <p:cNvPicPr/>
          <p:nvPr/>
        </p:nvPicPr>
        <p:blipFill>
          <a:blip r:embed="rId1"/>
          <a:stretch/>
        </p:blipFill>
        <p:spPr>
          <a:xfrm>
            <a:off x="2843280" y="4292640"/>
            <a:ext cx="36385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Дидактические цели проект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7778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Формирование компетентности в области экологического образования детей, классификации птиц, их характеристики, подбора и ухо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Формирование интереса к птицам иноземного происхождения, содержащихся в условиях ДО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Развитие самостоятельности в поиске теоретического и практического материал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Развитие исследовательских ум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Методические задачи проект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ъяснить требования, предъявляемые при подборе декоративных пт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казать практическое значение изучения данной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учить самостоятельно ориентироваться в литературном многообразии при подборе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формировать представления о различных видах декоративных птиц, которые можно размещать в уголке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учить использовать средства ИКТ для создания и преподнесе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Проблемные вопросы (темы индивидуальных проектов)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79640" y="2205000"/>
            <a:ext cx="6554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Каково значение птиц? Биоэкологическая характеристика класса птиц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8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исеева М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SC00842"/>
          <p:cNvPicPr/>
          <p:nvPr/>
        </p:nvPicPr>
        <p:blipFill>
          <a:blip r:embed="rId1"/>
          <a:stretch/>
        </p:blipFill>
        <p:spPr>
          <a:xfrm>
            <a:off x="900000" y="357336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190440"/>
            <a:ext cx="698688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Экологический паспорт певчих и декоративных пт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рибкова Екат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IMG_6664"/>
          <p:cNvPicPr/>
          <p:nvPr/>
        </p:nvPicPr>
        <p:blipFill>
          <a:blip r:embed="rId1"/>
          <a:stretch/>
        </p:blipFill>
        <p:spPr>
          <a:xfrm>
            <a:off x="2700360" y="2924280"/>
            <a:ext cx="2890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1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Как содержать и ухаживать за птицами в уголке природы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одыгина Тат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Изображение 068"/>
          <p:cNvPicPr/>
          <p:nvPr/>
        </p:nvPicPr>
        <p:blipFill>
          <a:blip r:embed="rId1"/>
          <a:stretch/>
        </p:blipFill>
        <p:spPr>
          <a:xfrm>
            <a:off x="2771640" y="2708280"/>
            <a:ext cx="2595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750"/>
                            </p:stCondLst>
                            <p:childTnLst>
                              <p:par>
                                <p:cTn id="1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250"/>
                            </p:stCondLst>
                            <p:childTnLst>
                              <p:par>
                                <p:cTn id="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190080"/>
            <a:ext cx="7058160" cy="20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Как осуществить подбор певчих и декоративных птиц в разных возрастных группах ДОУ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7640" y="2997360"/>
            <a:ext cx="66265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Arial"/>
              </a:rPr>
              <a:t>Вахнина Юл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Изображение 077"/>
          <p:cNvPicPr/>
          <p:nvPr/>
        </p:nvPicPr>
        <p:blipFill>
          <a:blip r:embed="rId1"/>
          <a:stretch/>
        </p:blipFill>
        <p:spPr>
          <a:xfrm>
            <a:off x="3203640" y="357336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Как знакомить дошкольников разных возрастных групп с декоративными птицами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3141360"/>
            <a:ext cx="70581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Arial"/>
              </a:rPr>
              <a:t>Прошева Окс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SC02606"/>
          <p:cNvPicPr/>
          <p:nvPr/>
        </p:nvPicPr>
        <p:blipFill>
          <a:blip r:embed="rId1"/>
          <a:stretch/>
        </p:blipFill>
        <p:spPr>
          <a:xfrm>
            <a:off x="5508720" y="2565360"/>
            <a:ext cx="2562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7:05:01Z</dcterms:created>
  <dc:creator>User</dc:creator>
  <dc:description/>
  <dc:language>en-US</dc:language>
  <cp:lastModifiedBy>Serg</cp:lastModifiedBy>
  <dcterms:modified xsi:type="dcterms:W3CDTF">2010-07-08T15:05:18Z</dcterms:modified>
  <cp:revision>3</cp:revision>
  <dc:subject/>
  <dc:title>Тема проекта:</dc:title>
</cp:coreProperties>
</file>